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40A2F-8086-4883-A0C2-9F384584CB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lessontutor.com/jm_respiratory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https://myhealth.alberta.ca/health/pages/conditions.aspx?hwid=ug2841&amp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umm.edu/imagepages/19595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hyperphysics.phy-astr.gsu.edu/hbase/biology/respir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joygardnerteaches.blogspot.ca/p/singing-anatomy-breath-vocal-fold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blogs.ubc.ca/nootka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B0197-9892-435A-819D-A5E0F18DA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15D47-F038-4C02-A0C8-ADE5B22FB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034C2-2E64-4A22-A019-8157F056B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D6332-088F-4C58-919D-0B1DBFC27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41934-0061-443A-8186-02AB63732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0DCA8-144F-4880-BEAC-13754C630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2540B-E250-4FDB-A332-826CD36C6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5A4E5-5018-450A-9E8B-79082E664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4A7EF-2DA4-4992-A8E9-B85F9828D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75832-9738-456A-8AC4-FC7485214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1BF07-4B51-4C90-8BAF-B2C9DC3F6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A09D6-547E-475F-BDA4-3ECADB298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5BC33-21F9-4F7F-8A48-77D94AD1F8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XTMYSGXhJ4E" TargetMode="External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gYSIWceGMxY" TargetMode="External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CO0qwl5k9R4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piratory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262240" y="609480"/>
            <a:ext cx="46180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sw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se or nasal pass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uth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al ca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y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right) lu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right) bronch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. diaphrag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. phary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 trach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. (left) bronch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. bronchio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1. alveo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Respiratory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change of gases (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between organism and its surround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85800" y="819000"/>
            <a:ext cx="7772400" cy="50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143000" y="609480"/>
            <a:ext cx="68580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339920" y="609480"/>
            <a:ext cx="64641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as Ex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imation of gas exchange in alveoli (some problems with sound, but good video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youtube.com/watch?v=XTMYSGXhJ4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reathing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790640" y="1981080"/>
            <a:ext cx="55609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reath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imation of movement of diaphragm and ribcage in breathing;  simple graphics but effective explan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youtube.com/watch?v=gYSIWceGMx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oki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is a powerful anti-smoking ad from Thailand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youtube.com/watch?v=CO0qwl5k9R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572000" y="1692360"/>
            <a:ext cx="4343400" cy="476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9T16:11:23Z</dcterms:created>
  <dc:creator>rubina khan</dc:creator>
  <dc:description/>
  <dc:language>en-US</dc:language>
  <cp:lastModifiedBy>rubina khan</cp:lastModifiedBy>
  <dcterms:modified xsi:type="dcterms:W3CDTF">2012-11-30T18:53:55Z</dcterms:modified>
  <cp:revision>27</cp:revision>
  <dc:subject/>
  <dc:title>Digestive &amp; Circulatory System Review</dc:title>
</cp:coreProperties>
</file>